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C0AC5-8C4E-432D-A43E-F71F2DFFB0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Source is an online staff development tool offering training for various computer applications such 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crosoft Office Suite, Technology Integration into the Curriculum, and Use of the Internet to name a f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employee has access to these training tutorials.  Every school should have a local school administrator to add and delete courses for their facult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logging in you will view your home page.  This is were you access your cour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rses can be added school to a school’s entire staff as a group or to an individ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course is broken into mini tutorial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utorial can contain as little as 7 slides and up to 40.  Therefore, a session can take as little as 5 mins. to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ers have access to this resource wherever there is Internet acce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is also online help and a users gu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r faculty has not had training on this wonderful product, then contact your school’s Technology Resource Teacher to plan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276-DA39-43C0-AC21-C7DF8FC38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608A-F3A8-471F-9D8C-7CBEB45B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1F7F-68A0-4480-86FA-06D02D51C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410-536E-4B00-9ACE-F45BF47AF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392B-70F7-4B2C-9002-2F287FACF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BB22-45B3-4669-A296-0EAB0191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C60E-1EEA-41DC-89C9-F46DBBC5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246F-C83B-46E2-A2A2-0FB23B40A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2F01-06EC-4023-A5EA-10FE75C07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22DC-C9F0-4368-B0DB-B5499417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898D-F7F5-462D-AFE5-DFE46E08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D609-E55D-49AD-A240-BCE895748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B2AF7-1171-4A2F-ADEE-94A4228F5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mcpss.howtomaster.com/" TargetMode="External"/><Relationship Id="rId2" Type="http://schemas.openxmlformats.org/officeDocument/2006/relationships/audio" Target="file:///tmp/home/.config/libreoffice/4/user/gallery/~PP3282.WAV" TargetMode="External"/><Relationship Id="rId3" Type="http://schemas.microsoft.com/office/2007/relationships/media" Target="file:///tmp/home/.config/libreoffice/4/user/gallery/~PP3282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file:///tmp/home/.config/libreoffice/4/user/gallery/~PP2840.WAV" TargetMode="External"/><Relationship Id="rId3" Type="http://schemas.microsoft.com/office/2007/relationships/media" Target="file:///tmp/home/.config/libreoffice/4/user/gallery/~PP2840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file:///tmp/home/.config/libreoffice/4/user/gallery/~PP2349.WAV" TargetMode="External"/><Relationship Id="rId3" Type="http://schemas.microsoft.com/office/2007/relationships/media" Target="file:///tmp/home/.config/libreoffice/4/user/gallery/~PP234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file:///tmp/home/.config/libreoffice/4/user/gallery/~PP1733.WAV" TargetMode="External"/><Relationship Id="rId3" Type="http://schemas.microsoft.com/office/2007/relationships/media" Target="file:///tmp/home/.config/libreoffice/4/user/gallery/~PP1733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file:///tmp/home/.config/libreoffice/4/user/gallery/~PP1389.WAV" TargetMode="External"/><Relationship Id="rId3" Type="http://schemas.microsoft.com/office/2007/relationships/media" Target="file:///tmp/home/.config/libreoffice/4/user/gallery/~PP1389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file:///tmp/home/.config/libreoffice/4/user/gallery/~PP1318.WAV" TargetMode="External"/><Relationship Id="rId3" Type="http://schemas.microsoft.com/office/2007/relationships/media" Target="file:///tmp/home/.config/libreoffice/4/user/gallery/~PP1318.WAV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676520" y="1295280"/>
            <a:ext cx="5943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InfoSourc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6600cc"/>
                </a:solidFill>
                <a:latin typeface="Lucida Sans"/>
              </a:rPr>
              <a:t>How to Mas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4495680"/>
            <a:ext cx="8153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cpss.howtomaster.com/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0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2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4"/>
                </p:tgtEl>
              </p:cMediaNode>
            </p:audio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6"/>
                </p:tgtEl>
              </p:cMediaNode>
            </p:audio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58"/>
                </p:tgtEl>
              </p:cMediaNode>
            </p:audio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077320" y="533520"/>
            <a:ext cx="1066680" cy="8380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61"/>
                </p:tgtEl>
              </p:cMediaNode>
            </p:audio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763120" cy="65721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696160" y="64101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4:04:14Z</dcterms:created>
  <dc:creator>Aheitman</dc:creator>
  <dc:description/>
  <dc:language>en-US</dc:language>
  <cp:lastModifiedBy>Aheitman</cp:lastModifiedBy>
  <dcterms:modified xsi:type="dcterms:W3CDTF">2007-09-12T14:05:02Z</dcterms:modified>
  <cp:revision>1</cp:revision>
  <dc:subject/>
  <dc:title>Slide 1</dc:title>
</cp:coreProperties>
</file>